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BBF-9312-40B3-AEA5-F58B1B43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3B6-6259-4DE4-BB08-98CE791D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1E49-BE4F-4257-9A26-688E2B69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4A0B-2503-4696-B488-27062FF3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77E1-169A-457C-A2F5-8C6902BD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9044-1340-469D-9A30-65B449BE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B3BB-8117-4898-8A2A-D0A08D32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F77A-01A5-4C13-835F-6324D5EA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1E66-C118-493A-91FB-E94BD2E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33B9-7EA0-4339-B6B4-99681B53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C5FA-3042-4EAE-8624-2846C903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108-BDEA-4D6C-A78C-47F8E5E6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9398-30A4-46A8-A4E5-BF61F10C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317D-1CC8-4C36-8FCB-97506EE7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727E-52E8-4AF2-96FB-7F1C06D8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F6F0-8CD9-4147-BC72-55196417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9B2F-62B9-48CD-801E-53F7C96D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88F94-FD44-494D-A2B4-DE0ED976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52BC9-E2F0-4178-AF30-07F07CB6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22E768-C40C-41C1-8B0F-1493EE80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ED8AE-3547-466A-81AC-4059986B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F878F-46DC-443D-BBD0-73BEFDAB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D96-0003-4EB0-96BA-2DB0691C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8A320-6BF4-44D0-954B-5A93B2AB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4046F-EF20-45B2-B34C-672DC653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A547B4-1B5A-4B33-99C3-F48CF940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11AD8F-CC7D-4207-9509-A3C588D1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6B011-0942-4D44-9EFA-21559436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B7DFA-3264-459E-95CD-0E147542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2A25C-DD59-423F-A9A6-8D221F76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D7E829-F58D-4C62-9839-EBD71724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6E2EF-10F6-4F6F-A12A-1005A765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76FF50-7795-4D90-9EDD-EC3A8B61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A00-11F0-43EE-8690-28880078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7977B-3AA7-4D5B-9A08-7C137742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66E530-7C26-4CFF-A68A-3EBCB217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CE87D-5FCF-4838-9FF1-21FE9983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30D794-48FB-4B83-AEB6-634E69D4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70A80-681C-42BB-B0DA-8BBD4F9D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35EF2-5E54-4B40-8AF0-E71A2391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EDDAC1-0B5B-4A30-8F00-84B3258E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F2A5A0-1B80-4ABF-8AF7-472E6637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6E2C1-DEA4-422E-B87A-010E44C7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27EA7-06B2-4099-8A57-2551E565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C38-FF22-49AA-9853-866FAA70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0C2A9-117A-4A32-8BCE-CD1F26CE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A3422-D6C5-4545-80B3-D8737A63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459C6-8B06-4359-8C08-70B3ECA5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C4A9F-9C46-42E4-8F7C-F2915EAB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A63FB-B67A-41A5-A1DF-C0CA5DE5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4161D-2FF3-4AC6-9A56-EA59855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1ECEBD-9D86-4437-A786-942AD58D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B8570-B3C2-4CF6-AAC2-7FE0FC89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2906D-3E95-4C97-8AD4-3D7C0959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839CB-FEAD-4E42-B335-E531EE9F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EDB-E0B4-482B-999B-7A48152D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43B606-5C93-4514-B201-EE4E4A50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D4AA4-8B01-4317-B85E-241BE478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74CD9-DC33-4615-9461-40C74F68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D2F42-5410-4A50-BCB6-AADA10DB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23521-CC2A-48E0-B26A-AB8C6DC0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4B02D-A317-451D-AFED-1A349938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1BA67-7A3D-4C5E-943C-44763341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0F35E-046D-4AF9-8324-425AD8EC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F8831-5A5D-4159-AB81-029E0CE2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E12E0-1067-422A-A8FD-4E87F81E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0CD-F8A8-40C6-BA67-D855BDF5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72BD7-73CF-4088-87DA-55D6F449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860D-E29C-49FC-9177-3FBBC079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55F31-9FFF-4D3E-8E89-732E1241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6D08F0-681C-4498-A7BA-2A4615C4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8AA38F-54A6-452F-A34D-2332073A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4D4C12-BBAD-4509-8400-99E0AEC8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9C97C-71CA-4312-A586-48167490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6DB16D-8A05-4768-AEE8-5C142FA1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8F04FA-C47D-4762-8EF4-40F59C0B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6CAA54-057F-489B-890C-AEEBFC99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2611-BFBE-47FD-BE88-7612B05B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64D62-04EE-4156-8627-D1145B6E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B6BDD-090F-40B6-B313-A3DFCF74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1B3CB-14A3-4830-A5F9-0645B3A8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65E65-3E7A-443B-B112-9707AB90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F4A3C6-6DB1-4403-B921-C9A49A31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5F449-ACF8-41F0-A5B8-F3AC68FA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D5E7D-A8AF-4AA5-99E4-B322C6AE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826C3-E0F3-4D9F-819A-B1A25C3D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785F9-6DF4-45E1-9740-6255039D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F15EE-1E45-435F-9F5C-415B46CF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2E3-E5FD-450C-9AA7-C6F78FC5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5E487-1B3B-441D-B595-E2E395C8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5F8A9-6B1D-4627-86AB-B7278240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68513-71E4-4010-A066-0145783C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FA036-1A51-4364-821E-06CDB19E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C34A5-DF99-400B-8876-0F9692E4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B8930-899F-45D0-8B62-AC7E8F91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72578-7165-4826-8B94-064655BD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2EB3-A4D1-468C-AF07-7759929BEFB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4D32-F351-4203-9CB9-D8051C676A3B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E887-A85E-499D-A613-7BC4B719FFB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749C-B23B-4533-967D-301B62C6852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6BDB-70F0-4F9F-9E6B-0F3B294C487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4616-D882-4A87-9FFD-FF108AD22089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344C-CE41-47AD-8BB5-AE9CEAA23FB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55A4-EC79-44E3-A484-B17707FABA4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12720" y="1600200"/>
            <a:ext cx="8153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arlos read 65 pages of a book that was 180 pages long.  He read 8 to 10 pages a day.  His brother, Marcus, read a book that had 215 pages.  Marcus always read 10 pages a day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more pages does Carlos need to read to finish the boo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uch longer was the book that Marcus read than the book that Carlos rea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ednesday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09120" y="1599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would be a reasonable number of days for Carlos to read the 65 page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urs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Carlos read all of both books, how many pages would he rea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ri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Carlos read 24 more pages of his book, how many pages would he still have to rea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6:56:02Z</dcterms:created>
  <dc:creator>127partidak</dc:creator>
  <dc:description/>
  <dc:language>en-US</dc:language>
  <cp:lastModifiedBy>127partidak</cp:lastModifiedBy>
  <dcterms:modified xsi:type="dcterms:W3CDTF">2011-11-03T20:24:11Z</dcterms:modified>
  <cp:revision>1</cp:revision>
  <dc:subject/>
  <dc:title>Information</dc:title>
</cp:coreProperties>
</file>